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8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9.wmf" ContentType="image/x-wmf"/>
  <Override PartName="/ppt/media/image6.gif" ContentType="image/gif"/>
  <Override PartName="/ppt/media/image20.jpeg" ContentType="image/jpeg"/>
  <Override PartName="/ppt/media/image19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5.gif" ContentType="image/gif"/>
  <Override PartName="/ppt/media/image1.png" ContentType="image/png"/>
  <Override PartName="/ppt/media/image13.wmf" ContentType="image/x-wmf"/>
  <Override PartName="/ppt/media/bomb.wav" ContentType="audio/x-wav"/>
  <Override PartName="/ppt/media/image5.wmf" ContentType="image/x-wmf"/>
  <Override PartName="/ppt/media/image10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96B-CE23-4342-A42D-8809D501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E05-46B2-4A60-B52B-31D322CB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CCF-C325-45BF-B294-59DD6BBA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1BA-2DE6-4A98-A5B3-1BF1206A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B948-7840-4700-982B-3298813E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D23D-A816-4A62-AE2B-038FB2B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34D3-8470-4087-B557-F102C66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6953-56A8-47D7-BDBC-976E8996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3493-3FDA-4268-8F02-E2C4ED2B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C97D-CFF5-4FB2-9292-349D52E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15D2-F056-4B29-9F58-A75505D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F46-7F43-4184-9C2C-3948A01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DC44-B5A0-42E6-98DB-E395F30E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434B-D764-4771-8E09-59861E6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6198-F139-430D-921B-8B86FE7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D4A-1F26-4D86-9160-D36B62A2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6763-73A1-48AC-8BFA-77F65014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6D7-3364-4B65-80AF-3C513677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0F0-FE8B-414E-8425-1826EEAA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4AB-086B-42DF-8538-996E21E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D6F-ACA3-4247-B783-53DEB71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8E0-FB7B-4FA6-8357-F02A0FA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F90-2F5F-4F12-B000-A6E7080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1A6-08E0-48D8-B986-0533144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49B-1F2C-4B8D-9E0E-1882622D455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92FF-40C9-4AE1-832C-8928A4C3562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gif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55640" y="234936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ИСЧЕЗЛ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НОЗАВРЫ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468360" y="0"/>
            <a:ext cx="5111640" cy="3933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random/>
    <p:sndAc>
      <p:stSnd>
        <p:snd r:embed="rId2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059280" y="620640"/>
            <a:ext cx="482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ША ГИПОТЕЗА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random/>
    <p:sndAc>
      <p:stSnd>
        <p:snd r:embed="rId2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 spokes="8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4321440" cy="2853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1724040" cy="1028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  <p:sndAc>
      <p:stSnd>
        <p:snd r:embed="rId4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1116000" y="260280"/>
            <a:ext cx="3527280" cy="2376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7559640" y="476280"/>
            <a:ext cx="1584360" cy="11383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5292720" y="5950080"/>
            <a:ext cx="638280" cy="190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  <p:sndAc>
      <p:stSnd>
        <p:snd r:embed="rId7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cover dir="rd"/>
    <p:sndAc>
      <p:stSnd>
        <p:snd r:embed="rId2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3203640" cy="1095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7791480" y="5634000"/>
            <a:ext cx="1352520" cy="1224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trips dir="lu"/>
    <p:sndAc>
      <p:stSnd>
        <p:snd r:embed="rId4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wipe dir="d"/>
    <p:sndAc>
      <p:stSnd>
        <p:snd r:embed="rId2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random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7:04:26Z</dcterms:created>
  <dc:creator>И Р О Ч К А</dc:creator>
  <dc:description/>
  <dc:language>en-US</dc:language>
  <cp:lastModifiedBy>И Р О Ч К А</cp:lastModifiedBy>
  <dcterms:modified xsi:type="dcterms:W3CDTF">2006-12-03T18:50:34Z</dcterms:modified>
  <cp:revision>7</cp:revision>
  <dc:subject/>
  <dc:title>Слайд 1</dc:title>
</cp:coreProperties>
</file>